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451B-D161-40FA-A999-CE5943960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6F5A-C306-4FE2-A2A2-130F976E1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8ECD-4EDF-4B4A-8C5A-BBAC87FEE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E074-71F3-4F84-9977-F0F41EFEB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88E3-21AA-46C0-B1AF-93B088AD4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8BA1-9BE6-4232-90C6-D8362A2AE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6F82-D237-401B-8D6C-AB809C2EF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386D-A5F9-486A-949C-C8834F745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0951-A272-43C1-816C-D71B22499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D3E2-B4B1-4FFD-B2A3-984DC775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76FA-4B13-42C5-B469-45A59267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1912-542B-4085-A4C0-B632DE65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F1EE1-0C96-42E9-B7F4-E95FF6CAE0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83 Istota vzác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nebeskej sláv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ocne sa skvie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to chcem vern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akať a bdie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ďaku mu vzdáva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každý deň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ieťaťom Boží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vať že sa smi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sklame nikdy, pomáha rád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em, že mu môže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ôverovať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Istota vzácna: Ježiš je mô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koja, blaha bezpečný zdroj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edič som spásy, vykúpen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rodený z Ducha, očistený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ďaku mu vzdáva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každý deň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ieťaťom Boží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vať že sa smi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sklame nikdy, pomáha rád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em, že mu môže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ôverov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ž nie som svo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ž Ježišov so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ď on je mojím Spasiteľo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 nebesám zrak svoj pozdvihuje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e skoro príde, to dobre vi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ďaku mu vzdáva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každý deň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ieťaťom Boží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vať že sa smi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sklame nikdy, pomáha rád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em, že mu môže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ôverov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 srdca radosť vlieva mi P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dím ho viero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ichádzať k ná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14T18:51:05Z</dcterms:modified>
  <cp:revision>21</cp:revision>
  <dc:subject/>
  <dc:title>Je veľký náš Pán, on slávy je Kráľ Nech do všetkých strán  spev vrúcnych znie chvál.</dc:title>
</cp:coreProperties>
</file>